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6002000" cy="11314113"/>
  <p:notesSz cx="140970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6900-707D-486D-B966-A50B03364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136015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00240" y="6815520"/>
            <a:ext cx="136015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B8D2-6FFC-4CD3-A6D8-2F04A22F1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002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1698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BEA9-144B-46EF-A3A1-E2896C8EB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98880" y="326880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397880" y="326880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00240" y="681552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98880" y="681552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397880" y="681552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B08C-F016-4180-B381-77F46BF46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00240" y="3268800"/>
            <a:ext cx="13601520" cy="67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7728-72BF-4750-9F74-C5F984BF4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136015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DE5C-90EA-4472-B5AF-AEAC1371B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E946-6F69-4874-B5D4-2A89C5C55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EF66-2C76-48BC-9328-76EA9455C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00240" y="1006200"/>
            <a:ext cx="13601520" cy="87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5536-8F71-4DCE-B3C9-D6AD99F14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002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5A33-1036-4904-9EAC-31AE41BC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1698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E544-7FA8-4E55-BB9B-5A0662B14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00240" y="6815520"/>
            <a:ext cx="136015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B9E0-FD29-4C59-ABEC-F01E56A55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00240" y="3268800"/>
            <a:ext cx="136015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 fontScale="96000"/>
          </a:bodyPr>
          <a:p>
            <a:pPr marL="561960" indent="-561960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1" marL="1217520" indent="-467280">
              <a:spcBef>
                <a:spcPts val="1375"/>
              </a:spcBef>
              <a:buClr>
                <a:srgbClr val="000000"/>
              </a:buClr>
              <a:buFont typeface="Times New Roman"/>
              <a:buChar char="–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2" marL="1873080" indent="-374760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3" marL="2622600" indent="-374760">
              <a:spcBef>
                <a:spcPts val="1375"/>
              </a:spcBef>
              <a:buClr>
                <a:srgbClr val="000000"/>
              </a:buClr>
              <a:buFont typeface="Times New Roman"/>
              <a:buChar char="–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4" marL="3370680" indent="-372960">
              <a:spcBef>
                <a:spcPts val="1375"/>
              </a:spcBef>
              <a:buClr>
                <a:srgbClr val="000000"/>
              </a:buClr>
              <a:buFont typeface="Times New Roman"/>
              <a:buChar char="»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5" marL="3370680" indent="-372960">
              <a:spcBef>
                <a:spcPts val="1375"/>
              </a:spcBef>
              <a:buClr>
                <a:srgbClr val="000000"/>
              </a:buClr>
              <a:buFont typeface="Times New Roman"/>
              <a:buChar char="»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6" marL="3370680" indent="-372960">
              <a:spcBef>
                <a:spcPts val="1375"/>
              </a:spcBef>
              <a:buClr>
                <a:srgbClr val="000000"/>
              </a:buClr>
              <a:buFont typeface="Times New Roman"/>
              <a:buChar char="»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00240" y="10308960"/>
            <a:ext cx="3333600" cy="7556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Autofit/>
          </a:bodyPr>
          <a:lstStyle>
            <a:lvl1pPr indent="0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67320" y="10308960"/>
            <a:ext cx="5067360" cy="7556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Autofit/>
          </a:bodyPr>
          <a:lstStyle>
            <a:lvl1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468160" y="10308960"/>
            <a:ext cx="3333600" cy="7556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Autofit/>
          </a:bodyPr>
          <a:lstStyle>
            <a:lvl1pPr indent="0" algn="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fld id="{42C5CEC3-4131-4F7B-BC77-BDAD7C89E5E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380880"/>
            <a:ext cx="15011280" cy="10515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98600" y="524160"/>
            <a:ext cx="1633320" cy="2246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siliul Judeţean Vâlc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772400" y="919440"/>
            <a:ext cx="1504800" cy="22464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OLEGIUL DIREC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2" idx="2"/>
            <a:endCxn id="43" idx="0"/>
          </p:cNvCxnSpPr>
          <p:nvPr/>
        </p:nvCxnSpPr>
        <p:spPr>
          <a:xfrm>
            <a:off x="8515080" y="748800"/>
            <a:ext cx="10080" cy="17100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45" name=""/>
          <p:cNvSpPr/>
          <p:nvPr/>
        </p:nvSpPr>
        <p:spPr>
          <a:xfrm>
            <a:off x="7562880" y="1285560"/>
            <a:ext cx="1905120" cy="346680"/>
          </a:xfrm>
          <a:prstGeom prst="rect">
            <a:avLst/>
          </a:prstGeom>
          <a:solidFill>
            <a:srgbClr val="ebeb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Direcţia Generală de Asistenţă Socială şi Protecţia Copilului - Vâlc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3" idx="2"/>
            <a:endCxn id="45" idx="0"/>
          </p:cNvCxnSpPr>
          <p:nvPr/>
        </p:nvCxnSpPr>
        <p:spPr>
          <a:xfrm flipH="1">
            <a:off x="8515440" y="1144080"/>
            <a:ext cx="9720" cy="14184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47" name=""/>
          <p:cNvSpPr/>
          <p:nvPr/>
        </p:nvSpPr>
        <p:spPr>
          <a:xfrm>
            <a:off x="7734240" y="1751400"/>
            <a:ext cx="1562040" cy="376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IRECTOR EXECUTIV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000" spc="-1" strike="noStrike">
                <a:solidFill>
                  <a:srgbClr val="cc0000"/>
                </a:solidFill>
                <a:latin typeface="Arial Narrow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5" idx="2"/>
            <a:endCxn id="47" idx="0"/>
          </p:cNvCxnSpPr>
          <p:nvPr/>
        </p:nvCxnSpPr>
        <p:spPr>
          <a:xfrm flipH="1">
            <a:off x="8515080" y="1632240"/>
            <a:ext cx="720" cy="11952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5391000" y="903960"/>
            <a:ext cx="14479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OMISIA DE EXPERTIZĂ persoane adulte cu handica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" name=""/>
          <p:cNvCxnSpPr>
            <a:stCxn id="42" idx="1"/>
            <a:endCxn id="49" idx="0"/>
          </p:cNvCxnSpPr>
          <p:nvPr/>
        </p:nvCxnSpPr>
        <p:spPr>
          <a:xfrm flipV="1" rot="10800000">
            <a:off x="6114600" y="636120"/>
            <a:ext cx="1584000" cy="267840"/>
          </a:xfrm>
          <a:prstGeom prst="bentConnector2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51" name=""/>
          <p:cNvSpPr/>
          <p:nvPr/>
        </p:nvSpPr>
        <p:spPr>
          <a:xfrm>
            <a:off x="10344240" y="919800"/>
            <a:ext cx="144756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OMISIA PENTRU PROTECŢIA  COPILU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42" idx="3"/>
            <a:endCxn id="51" idx="0"/>
          </p:cNvCxnSpPr>
          <p:nvPr/>
        </p:nvCxnSpPr>
        <p:spPr>
          <a:xfrm>
            <a:off x="9331920" y="636480"/>
            <a:ext cx="1736280" cy="283680"/>
          </a:xfrm>
          <a:prstGeom prst="bentConnector2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53" name=""/>
          <p:cNvSpPr/>
          <p:nvPr/>
        </p:nvSpPr>
        <p:spPr>
          <a:xfrm>
            <a:off x="4724280" y="2479680"/>
            <a:ext cx="2133720" cy="4683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3333cc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Directia de Protectie a Copilulu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- Director Executiv Adjunct -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877240" y="2440080"/>
            <a:ext cx="2286000" cy="59004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8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Directia de A</a:t>
            </a: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sistenţă Social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- Director Executiv Adjunct -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030200" y="2446920"/>
            <a:ext cx="1905120" cy="62100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0066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Directia Econom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- Director Executiv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Adjunct Economic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19320" y="3929760"/>
            <a:ext cx="15238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. Resurse Uma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8 / 1 / 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19320" y="3320640"/>
            <a:ext cx="1523880" cy="43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audit inter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19320" y="4463280"/>
            <a:ext cx="15238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Juridic Contenci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19320" y="4882680"/>
            <a:ext cx="1523880" cy="43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Mass-Media </a:t>
            </a: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şi relaţii cu publicu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5415840"/>
            <a:ext cx="15238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PM - PS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6200000">
            <a:off x="3047760" y="4267080"/>
            <a:ext cx="1943280" cy="5713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 Secretariat Comisie pentru Protectia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piluluii si anchete zona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8 / 1 / 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16200000">
            <a:off x="3860640" y="4267080"/>
            <a:ext cx="194328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evaluare, testare, pregătire, monitorizare Asistenti Maternali Profesionis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8 / 1 / 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532116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protecţie de tip rezidenţ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8  / 1 / 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6200000">
            <a:off x="4628880" y="4286160"/>
            <a:ext cx="194328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 pentru îngrijire de tip famil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în domeniul protecţiei copilulu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3300"/>
                </a:solidFill>
                <a:latin typeface="Times New Roman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6000480" y="4286160"/>
            <a:ext cx="194328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asitenţă şi sprijin pentru protecţia şi promovarea drepturilor copilu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3300"/>
                </a:solidFill>
                <a:latin typeface="Times New Roman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16200000">
            <a:off x="6686280" y="4286160"/>
            <a:ext cx="194328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de evaluare complexă a copilului cu dizabilităţ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9 / 1 /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53" idx="2"/>
            <a:endCxn id="61" idx="3"/>
          </p:cNvCxnSpPr>
          <p:nvPr/>
        </p:nvCxnSpPr>
        <p:spPr>
          <a:xfrm rot="5400000">
            <a:off x="4588200" y="2378880"/>
            <a:ext cx="633600" cy="177192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53" idx="2"/>
            <a:endCxn id="62" idx="3"/>
          </p:cNvCxnSpPr>
          <p:nvPr/>
        </p:nvCxnSpPr>
        <p:spPr>
          <a:xfrm rot="5400000">
            <a:off x="4994640" y="2785320"/>
            <a:ext cx="633600" cy="95904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53" idx="2"/>
            <a:endCxn id="63" idx="3"/>
          </p:cNvCxnSpPr>
          <p:nvPr/>
        </p:nvCxnSpPr>
        <p:spPr>
          <a:xfrm flipH="1" rot="16200000">
            <a:off x="5725440" y="3013560"/>
            <a:ext cx="633600" cy="50220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53" idx="2"/>
            <a:endCxn id="64" idx="3"/>
          </p:cNvCxnSpPr>
          <p:nvPr/>
        </p:nvCxnSpPr>
        <p:spPr>
          <a:xfrm rot="5400000">
            <a:off x="5378760" y="3169440"/>
            <a:ext cx="633600" cy="19080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71" name=""/>
          <p:cNvSpPr/>
          <p:nvPr/>
        </p:nvSpPr>
        <p:spPr>
          <a:xfrm>
            <a:off x="3200400" y="5623200"/>
            <a:ext cx="182880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Asistenti maternali profesionisti -</a:t>
            </a:r>
            <a:r>
              <a:rPr b="1" i="1" lang="en-US" sz="1000" spc="-1" strike="noStrike">
                <a:solidFill>
                  <a:srgbClr val="cc0000"/>
                </a:solidFill>
                <a:latin typeface="Arial Narrow"/>
              </a:rPr>
              <a:t> 415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postu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8120" y="5944320"/>
            <a:ext cx="198108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Compartimentul evaluare, testare, pregătire Asistenti Maternali Profesionis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86200" y="6348960"/>
            <a:ext cx="18288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Adopţie, post-adopţie, consiliere, monitoriz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86200" y="6553800"/>
            <a:ext cx="18288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Plasament familial, consiliere, monitoriz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6200000">
            <a:off x="1504800" y="7562520"/>
            <a:ext cx="1371600" cy="4194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plasament nr. 4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m. Vâ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cc0000"/>
                </a:solidFill>
                <a:latin typeface="Arial Narrow"/>
              </a:rPr>
              <a:t>54 / 1 / 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162920" y="5731200"/>
            <a:ext cx="22860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Anchete sociale, consiliere pentru părinţi şi cop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" name=""/>
          <p:cNvCxnSpPr>
            <a:stCxn id="65" idx="1"/>
            <a:endCxn id="76" idx="1"/>
          </p:cNvCxnSpPr>
          <p:nvPr/>
        </p:nvCxnSpPr>
        <p:spPr>
          <a:xfrm flipH="1" rot="16200000">
            <a:off x="6915960" y="5580720"/>
            <a:ext cx="303840" cy="191160"/>
          </a:xfrm>
          <a:prstGeom prst="bentConnector2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78" name=""/>
          <p:cNvSpPr/>
          <p:nvPr/>
        </p:nvSpPr>
        <p:spPr>
          <a:xfrm>
            <a:off x="7162920" y="5955120"/>
            <a:ext cx="243828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Pregătirea şi sprijinirea integrării-reintegrării copilului în famil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65" idx="1"/>
            <a:endCxn id="78" idx="1"/>
          </p:cNvCxnSpPr>
          <p:nvPr/>
        </p:nvCxnSpPr>
        <p:spPr>
          <a:xfrm flipH="1" rot="16200000">
            <a:off x="6804000" y="5692680"/>
            <a:ext cx="527760" cy="191160"/>
          </a:xfrm>
          <a:prstGeom prst="bentConnector2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7162920" y="6180480"/>
            <a:ext cx="259056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nsiliere, intervenţie până la stabilirea unei măsuri de protecţ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162920" y="6404400"/>
            <a:ext cx="259056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Evaluare copil care a săvârşit faptă penală şi nu răspunde pen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162920" y="6609240"/>
            <a:ext cx="259056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integrarea si sprijinirea copiilor repatria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" name=""/>
          <p:cNvCxnSpPr>
            <a:stCxn id="65" idx="1"/>
            <a:endCxn id="80" idx="1"/>
          </p:cNvCxnSpPr>
          <p:nvPr/>
        </p:nvCxnSpPr>
        <p:spPr>
          <a:xfrm flipH="1" rot="16200000">
            <a:off x="6691320" y="5805360"/>
            <a:ext cx="753120" cy="191160"/>
          </a:xfrm>
          <a:prstGeom prst="bentConnector4">
            <a:avLst>
              <a:gd name="adj1" fmla="val 43998"/>
              <a:gd name="adj2" fmla="val -18867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84" name=""/>
          <p:cNvCxnSpPr>
            <a:stCxn id="65" idx="1"/>
            <a:endCxn id="81" idx="1"/>
          </p:cNvCxnSpPr>
          <p:nvPr/>
        </p:nvCxnSpPr>
        <p:spPr>
          <a:xfrm flipH="1" rot="16200000">
            <a:off x="6579360" y="5917320"/>
            <a:ext cx="977040" cy="191160"/>
          </a:xfrm>
          <a:prstGeom prst="bentConnector4">
            <a:avLst>
              <a:gd name="adj1" fmla="val 45374"/>
              <a:gd name="adj2" fmla="val -18867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65" idx="1"/>
            <a:endCxn id="82" idx="1"/>
          </p:cNvCxnSpPr>
          <p:nvPr/>
        </p:nvCxnSpPr>
        <p:spPr>
          <a:xfrm flipH="1" rot="16200000">
            <a:off x="6476760" y="6019920"/>
            <a:ext cx="1181880" cy="191160"/>
          </a:xfrm>
          <a:prstGeom prst="bentConnector4">
            <a:avLst>
              <a:gd name="adj1" fmla="val 46160"/>
              <a:gd name="adj2" fmla="val -18867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14001840" y="3587040"/>
            <a:ext cx="1218960" cy="43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economic şi financiar-contab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020920" y="4120560"/>
            <a:ext cx="1218960" cy="43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achiziţii publice şi aprovizion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001840" y="4652280"/>
            <a:ext cx="1218960" cy="43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tehnic ş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administrati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3 / 1 / 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" name=""/>
          <p:cNvCxnSpPr>
            <a:stCxn id="55" idx="3"/>
            <a:endCxn id="86" idx="3"/>
          </p:cNvCxnSpPr>
          <p:nvPr/>
        </p:nvCxnSpPr>
        <p:spPr>
          <a:xfrm>
            <a:off x="14935320" y="2757240"/>
            <a:ext cx="285840" cy="1048680"/>
          </a:xfrm>
          <a:prstGeom prst="bentConnector3">
            <a:avLst>
              <a:gd name="adj1" fmla="val 181210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55" idx="3"/>
            <a:endCxn id="87" idx="3"/>
          </p:cNvCxnSpPr>
          <p:nvPr/>
        </p:nvCxnSpPr>
        <p:spPr>
          <a:xfrm>
            <a:off x="14935320" y="2757240"/>
            <a:ext cx="304920" cy="1582200"/>
          </a:xfrm>
          <a:prstGeom prst="bentConnector3">
            <a:avLst>
              <a:gd name="adj1" fmla="val 1761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91" name=""/>
          <p:cNvCxnSpPr>
            <a:stCxn id="55" idx="3"/>
            <a:endCxn id="88" idx="3"/>
          </p:cNvCxnSpPr>
          <p:nvPr/>
        </p:nvCxnSpPr>
        <p:spPr>
          <a:xfrm>
            <a:off x="14935320" y="2757240"/>
            <a:ext cx="285840" cy="2113920"/>
          </a:xfrm>
          <a:prstGeom prst="bentConnector3">
            <a:avLst>
              <a:gd name="adj1" fmla="val 181210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92" name=""/>
          <p:cNvSpPr/>
          <p:nvPr/>
        </p:nvSpPr>
        <p:spPr>
          <a:xfrm rot="16200000">
            <a:off x="2000160" y="7524720"/>
            <a:ext cx="137160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plasament nr. 5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Vâ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cc0000"/>
                </a:solidFill>
                <a:latin typeface="Arial Narrow"/>
              </a:rPr>
              <a:t>61 / 1 / 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6200000">
            <a:off x="2495520" y="7562880"/>
            <a:ext cx="1371600" cy="41904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lex de servicii socia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Troianu-Rm. Va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 </a:t>
            </a:r>
            <a:r>
              <a:rPr b="0" lang="en-US" sz="800" spc="-1" strike="noStrike">
                <a:solidFill>
                  <a:srgbClr val="cc0000"/>
                </a:solidFill>
                <a:latin typeface="Arial Narrow"/>
              </a:rPr>
              <a:t>29 / 2 / 2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3943440" y="7486560"/>
            <a:ext cx="137160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de tip rezidenţial pentru recuperarea copilului cu dizabilităţ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m. Vâ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cc0000"/>
                </a:solidFill>
                <a:latin typeface="Arial Narrow"/>
              </a:rPr>
              <a:t>71 / 1 / 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16200000">
            <a:off x="4467240" y="7572240"/>
            <a:ext cx="1371600" cy="4003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asa “</a:t>
            </a: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Pinocchio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”</a:t>
            </a: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Bă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cc0000"/>
                </a:solidFill>
                <a:latin typeface="Arial Narrow"/>
              </a:rPr>
              <a:t>36  / 1 / 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6200000">
            <a:off x="4991040" y="7505640"/>
            <a:ext cx="13716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rezidential de recuperare a tinerilori cu afectiuni neuropsih.  Bă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cc0000"/>
                </a:solidFill>
                <a:latin typeface="Arial Narrow"/>
              </a:rPr>
              <a:t>89 / 1 / 8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5695920" y="7486560"/>
            <a:ext cx="137160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lex de servicii comunit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m. Vâ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cc0000"/>
                </a:solidFill>
                <a:latin typeface="Arial Narrow"/>
              </a:rPr>
              <a:t>86 / 3 / 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6381720" y="7486560"/>
            <a:ext cx="137160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 pentru copilul repatriat, delincvent şi din strad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cc0000"/>
                </a:solidFill>
                <a:latin typeface="Arial Narrow"/>
              </a:rPr>
              <a:t>17 / 1 / 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/>
          <p:nvPr/>
        </p:nvCxnSpPr>
        <p:spPr>
          <a:xfrm rot="5400000">
            <a:off x="4893120" y="5698080"/>
            <a:ext cx="1564200" cy="1293120"/>
          </a:xfrm>
          <a:prstGeom prst="bentConnector3">
            <a:avLst>
              <a:gd name="adj1" fmla="val 83540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 rot="16200000">
            <a:off x="3352680" y="9296280"/>
            <a:ext cx="1371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 asistenţă familială şi comunitară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Arial Narrow"/>
              </a:rPr>
              <a:t>(4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7543800" y="922032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 pentru copilul cu dizabilităţ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Arial Narrow"/>
              </a:rPr>
              <a:t>(35  / 1 34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6934320" y="922032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pt. Copilul abuzat,neglijat,exploat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Arial Narrow"/>
              </a:rPr>
              <a:t>(26 / 1 / 25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6210360" y="9182160"/>
            <a:ext cx="13716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 de zi de ingrijire si recuperare pentru copilul cu dizabilitat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Arial Narrow"/>
              </a:rPr>
              <a:t>(22/ 1 / 21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/>
          <p:nvPr/>
        </p:nvCxnSpPr>
        <p:spPr>
          <a:xfrm flipH="1" rot="16200000">
            <a:off x="7659720" y="911520"/>
            <a:ext cx="3215160" cy="1999440"/>
          </a:xfrm>
          <a:prstGeom prst="bentConnector3">
            <a:avLst>
              <a:gd name="adj1" fmla="val -6662"/>
            </a:avLst>
          </a:prstGeom>
          <a:ln w="0">
            <a:noFill/>
          </a:ln>
        </p:spPr>
      </p:cxnSp>
      <p:cxnSp>
        <p:nvCxnSpPr>
          <p:cNvPr id="105" name=""/>
          <p:cNvCxnSpPr>
            <a:stCxn id="54" idx="2"/>
          </p:cNvCxnSpPr>
          <p:nvPr/>
        </p:nvCxnSpPr>
        <p:spPr>
          <a:xfrm>
            <a:off x="10020240" y="3030120"/>
            <a:ext cx="2223360" cy="558000"/>
          </a:xfrm>
          <a:prstGeom prst="straightConnector1">
            <a:avLst/>
          </a:prstGeom>
          <a:ln w="0">
            <a:noFill/>
          </a:ln>
        </p:spPr>
      </p:cxnSp>
      <p:sp>
        <p:nvSpPr>
          <p:cNvPr id="106" name=""/>
          <p:cNvSpPr/>
          <p:nvPr/>
        </p:nvSpPr>
        <p:spPr>
          <a:xfrm rot="16200000">
            <a:off x="950580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ul protecţie de tip rezidenţial in domeniul asistentei sociale a persoanelor adult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3300"/>
                </a:solidFill>
                <a:latin typeface="Arial Narrow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10115280" y="4286160"/>
            <a:ext cx="194328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alternative de tip familial si prevenirea institutionalizar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3300"/>
                </a:solidFill>
                <a:latin typeface="Arial Narrow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1141092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 antisaracie, prevenirea marginalizarii sociale  si promovarea incluziunii sociale a persoanelor adul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1072512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evaluare  protectie speciala a persoanelor adulte- Secretariat Comisie de Expertiza Medicala pentru persoane adul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0  / 1 / 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908840" y="5549760"/>
            <a:ext cx="1843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908840" y="5549760"/>
            <a:ext cx="1843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10515600" y="754380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ingrijire si asitenta Lunges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 Narrow"/>
              </a:rPr>
              <a:t>63  / 1  / 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11010960" y="7581960"/>
            <a:ext cx="13716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ingrijire si asistenta Zatr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 Narrow"/>
              </a:rPr>
              <a:t>98 / 1 / 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16200000">
            <a:off x="12306240" y="7505640"/>
            <a:ext cx="13716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recuperare si  reabilitare neuropsihica Nr.1 Ba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 Narrow"/>
              </a:rPr>
              <a:t>84 / 1 / 8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13792320" y="754380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recuperare si reabilitare neuropsihiatrica Maciu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 Narrow"/>
              </a:rPr>
              <a:t>86 / 1 / 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030200" y="8644320"/>
            <a:ext cx="2438280" cy="8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Asistenţă socio-medicală de îngrijire la domiciliu = </a:t>
            </a:r>
            <a:r>
              <a:rPr b="1" i="1" lang="en-US" sz="800" spc="-1" strike="noStrike">
                <a:solidFill>
                  <a:srgbClr val="cc3300"/>
                </a:solidFill>
                <a:latin typeface="Arial Narrow"/>
              </a:rPr>
              <a:t>15 posturi  ce vor fi preluate de cele 5 primarii, conform proiectelor PHAREi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- persoane vârstnice şi adulte cu afecţiuni cron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- terapie ocupaţională şi integrare profesional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- socializare persoane cu handica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887200" y="6163200"/>
            <a:ext cx="29718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Asistenţă specială şi asigurarea drepturilor legale a persoanelor cu handica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887200" y="6401160"/>
            <a:ext cx="29718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Monitorizare, pregătire, testare şi evaluare asistenţi personal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9" name=""/>
          <p:cNvCxnSpPr>
            <a:stCxn id="109" idx="1"/>
            <a:endCxn id="117" idx="1"/>
          </p:cNvCxnSpPr>
          <p:nvPr/>
        </p:nvCxnSpPr>
        <p:spPr>
          <a:xfrm flipH="1" rot="16200000">
            <a:off x="11424240" y="5796720"/>
            <a:ext cx="735840" cy="190800"/>
          </a:xfrm>
          <a:prstGeom prst="bentConnector4">
            <a:avLst>
              <a:gd name="adj1" fmla="val 43857"/>
              <a:gd name="adj2" fmla="val -19281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09" idx="1"/>
            <a:endCxn id="118" idx="1"/>
          </p:cNvCxnSpPr>
          <p:nvPr/>
        </p:nvCxnSpPr>
        <p:spPr>
          <a:xfrm flipH="1" rot="16200000">
            <a:off x="11305080" y="5915880"/>
            <a:ext cx="973800" cy="190800"/>
          </a:xfrm>
          <a:prstGeom prst="bentConnector4">
            <a:avLst>
              <a:gd name="adj1" fmla="val 45340"/>
              <a:gd name="adj2" fmla="val -19281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12192120" y="5715360"/>
            <a:ext cx="16002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Asistenţă socială şi relaţii cu ONG-u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16200000">
            <a:off x="8153280" y="4267080"/>
            <a:ext cx="194328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de interventie in regim de urgenta   - Telefonul copilului  si telefonul adultului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3300"/>
                </a:solidFill>
                <a:latin typeface="Times New Roman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53" idx="2"/>
            <a:endCxn id="66" idx="3"/>
          </p:cNvCxnSpPr>
          <p:nvPr/>
        </p:nvCxnSpPr>
        <p:spPr>
          <a:xfrm flipH="1" rot="16200000">
            <a:off x="6408000" y="2331000"/>
            <a:ext cx="633600" cy="186732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7848720" y="10592280"/>
            <a:ext cx="198108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Consiliere pentru copil Abuzat,Neglijat, Exploata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848720" y="10363680"/>
            <a:ext cx="27432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Recu perare medico-sociala a copilului Abuzat, Neglijat, Exploatat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19320" y="2673000"/>
            <a:ext cx="1523880" cy="5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Programe, Pproiecte, Strategii Integrare Europea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47" idx="1"/>
            <a:endCxn id="126" idx="1"/>
          </p:cNvCxnSpPr>
          <p:nvPr/>
        </p:nvCxnSpPr>
        <p:spPr>
          <a:xfrm flipV="1" rot="10800000">
            <a:off x="1218960" y="1939320"/>
            <a:ext cx="6515280" cy="1013040"/>
          </a:xfrm>
          <a:prstGeom prst="bentConnector3">
            <a:avLst>
              <a:gd name="adj1" fmla="val 103558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1219320" y="5794200"/>
            <a:ext cx="15238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erv. Medico-soc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0000"/>
                </a:solidFill>
                <a:latin typeface="Times New Roman"/>
              </a:rPr>
              <a:t>8 / 1 / 7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90720" y="601992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7162920" y="754380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erviciul  de primire in regim de urgenta a copilu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cc3300"/>
                </a:solidFill>
                <a:latin typeface="Times New Roman"/>
              </a:rPr>
              <a:t>15 / 1 / 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914400" y="7467480"/>
            <a:ext cx="137160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erviciul de integrare socioprofesionala a  tinerilor din sistemul .de protec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cc0000"/>
                </a:solidFill>
                <a:latin typeface="Times New Roman"/>
              </a:rPr>
              <a:t>11 /1 /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9029520" y="7581600"/>
            <a:ext cx="137160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entrul de zi pt.recuperare neuromotorie -Ba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cc0000"/>
                </a:solidFill>
                <a:latin typeface="Times New Roman"/>
              </a:rPr>
              <a:t>15 / 1 / 14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543800" y="10515600"/>
            <a:ext cx="228600" cy="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543800" y="10134720"/>
            <a:ext cx="0" cy="53316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543800" y="10667880"/>
            <a:ext cx="228600" cy="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16200000">
            <a:off x="2933640" y="7581960"/>
            <a:ext cx="13716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lex  familial pt.copil cu dizabilitati Goran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cc3300"/>
                </a:solidFill>
                <a:latin typeface="Arial Narrow"/>
              </a:rPr>
              <a:t>44 / 1 / 4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73492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16200000">
            <a:off x="2781360" y="9410760"/>
            <a:ext cx="13716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asa “Materna”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Troian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3333cc"/>
                </a:solidFill>
                <a:latin typeface="Arial Narrow"/>
              </a:rPr>
              <a:t>( 15 / 1 /  14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21583200">
            <a:off x="11353320" y="9446760"/>
            <a:ext cx="13716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3300"/>
                </a:solidFill>
                <a:latin typeface="Arial Narrow"/>
              </a:rPr>
              <a:t>***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l de Ingrijire si asisten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Milcoi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 Narrow"/>
              </a:rPr>
              <a:t>54 1 / 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20140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210680" y="6858000"/>
            <a:ext cx="426744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4952520" y="571500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05520" y="4495680"/>
            <a:ext cx="7596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81480" y="4495680"/>
            <a:ext cx="0" cy="160020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5028840" y="6095880"/>
            <a:ext cx="15228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534520" y="2133720"/>
            <a:ext cx="0" cy="15228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791320" y="2286000"/>
            <a:ext cx="822960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020920" y="2286000"/>
            <a:ext cx="0" cy="1522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906120" y="2286000"/>
            <a:ext cx="0" cy="1522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2286000"/>
            <a:ext cx="0" cy="1522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2590920"/>
            <a:ext cx="0" cy="388620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90720" y="350532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90720" y="411480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90720" y="464832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90720" y="510552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90720" y="563868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90720" y="647712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515600" y="5486400"/>
            <a:ext cx="0" cy="137160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3797000" y="537120"/>
            <a:ext cx="97488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exa n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4249520" y="761040"/>
            <a:ext cx="1295280" cy="48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otal Posturi Protectia Copilului   =  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53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4249520" y="2138400"/>
            <a:ext cx="12189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Total General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79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635040"/>
            <a:ext cx="2133720" cy="4374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3333cc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GANIGRAM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.G.A.S.P.C. VALCEA-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248520" y="6858000"/>
            <a:ext cx="83808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668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20040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6386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3244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08660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90720" y="6477120"/>
            <a:ext cx="0" cy="0"/>
          </a:xfrm>
          <a:prstGeom prst="line">
            <a:avLst/>
          </a:prstGeom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021068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971800" y="8763120"/>
            <a:ext cx="114300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8763120"/>
            <a:ext cx="0" cy="152280"/>
          </a:xfrm>
          <a:prstGeom prst="line">
            <a:avLst/>
          </a:prstGeom>
          <a:ln w="1260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429000" y="8763120"/>
            <a:ext cx="0" cy="152280"/>
          </a:xfrm>
          <a:prstGeom prst="line">
            <a:avLst/>
          </a:prstGeom>
          <a:ln w="1260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0968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66680" y="9082080"/>
            <a:ext cx="129564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9219960" y="6858000"/>
            <a:ext cx="99036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5562720" y="922032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.de consilier parinti / copi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Arial Narrow"/>
              </a:rPr>
              <a:t>( 3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248520" y="8610480"/>
            <a:ext cx="190476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153280" y="8610480"/>
            <a:ext cx="0" cy="15264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248520" y="8610480"/>
            <a:ext cx="0" cy="15264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934320" y="8610480"/>
            <a:ext cx="0" cy="15264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543800" y="8610480"/>
            <a:ext cx="0" cy="15264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400800" y="8458200"/>
            <a:ext cx="0" cy="15228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12953880" y="8610480"/>
            <a:ext cx="190512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953880" y="8610480"/>
            <a:ext cx="0" cy="45720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953880" y="9067680"/>
            <a:ext cx="15264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4249520" y="1134360"/>
            <a:ext cx="1295280" cy="6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otal posturi  AMP                                                                                                   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4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763120" y="8551800"/>
            <a:ext cx="266688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. pt. copil care a savirsit o fapta penala si nu raspunde pen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. pt. copil repatri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Adapost temporar pt. copilul din strad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219320" y="8781120"/>
            <a:ext cx="144756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-Componenta rezidentia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-Componenta de consiliere si orientare profesiona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-Componenta de formare si integrare socio-profesiona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-Componenta de integrare/reintegrare familia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-Componenta de formare/dezvoltare a deprinderilor de viata independen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600200" y="8458200"/>
            <a:ext cx="0" cy="15228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990360" y="8610480"/>
            <a:ext cx="60948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90720" y="8610480"/>
            <a:ext cx="0" cy="121932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90720" y="982980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952488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90720" y="929628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90720" y="906768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90720" y="891540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16200000">
            <a:off x="13049280" y="7524720"/>
            <a:ext cx="137160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recuperare si  reabilitare neuropsihicaNr.2 Ba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 Narrow"/>
              </a:rPr>
              <a:t>59 / 1 / 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19212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16200000">
            <a:off x="9486720" y="7581600"/>
            <a:ext cx="137160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pentru persoane virstn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Bistri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3300"/>
                </a:solidFill>
                <a:latin typeface="Arial Narrow"/>
              </a:rPr>
              <a:t>67 / 1 / 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75348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114800" y="8763120"/>
            <a:ext cx="0" cy="15228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16200000">
            <a:off x="2247840" y="9410760"/>
            <a:ext cx="13716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pentru victimel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violentei in famil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3333cc"/>
                </a:solidFill>
                <a:latin typeface="Arial Narrow"/>
              </a:rPr>
              <a:t>( 10/ 1 / 9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00400" y="8458200"/>
            <a:ext cx="0" cy="15228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00400" y="8610480"/>
            <a:ext cx="38088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81280" y="8610480"/>
            <a:ext cx="0" cy="15264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3200400" y="8610480"/>
            <a:ext cx="7632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086600" y="5562720"/>
            <a:ext cx="182880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010280" y="5638680"/>
            <a:ext cx="15264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162920" y="5563080"/>
            <a:ext cx="22860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nterventie in regim de urgenta pentru famil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0972800" y="10134360"/>
            <a:ext cx="220968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PRESEDINTE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DUMITRU B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296280" y="3276720"/>
            <a:ext cx="0" cy="30456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420720" y="5562720"/>
            <a:ext cx="0" cy="22860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90720" y="213372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rot="16200000">
            <a:off x="8534520" y="754380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criza si respi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 Narrow"/>
              </a:rPr>
              <a:t>15  / 1  /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rot="16200000">
            <a:off x="7924680" y="754380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de primire in regim de urgenta pentru persoane adul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 Narrow"/>
              </a:rPr>
              <a:t>15  / 1  / 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448920" y="4952880"/>
            <a:ext cx="38088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829800" y="4952880"/>
            <a:ext cx="0" cy="182880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077320" y="6781680"/>
            <a:ext cx="175248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61048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010280" y="8534520"/>
            <a:ext cx="152424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534520" y="8534520"/>
            <a:ext cx="0" cy="30456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534520" y="883908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7848360" y="678168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84872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363320" y="3276720"/>
            <a:ext cx="0" cy="30456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49120" y="3276720"/>
            <a:ext cx="0" cy="30456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1734920" y="3276720"/>
            <a:ext cx="0" cy="30456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420720" y="3276720"/>
            <a:ext cx="0" cy="30456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906120" y="304812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296280" y="3276720"/>
            <a:ext cx="312444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rot="16200000">
            <a:off x="3390840" y="7581960"/>
            <a:ext cx="13716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l de recuper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pt.copil cu dizabilitati Goran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cc3300"/>
                </a:solidFill>
                <a:latin typeface="Arial Narrow"/>
              </a:rPr>
              <a:t>17 / 1 / 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11480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010280" y="8458200"/>
            <a:ext cx="0" cy="7632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22032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16200000">
            <a:off x="9982080" y="754380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ingrijire si asistenta Bistri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3300"/>
                </a:solidFill>
                <a:latin typeface="Arial Narrow"/>
              </a:rPr>
              <a:t>21 / 1 / 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074420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0" y="3276720"/>
            <a:ext cx="0" cy="30456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20120" y="3276720"/>
            <a:ext cx="144756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8610480" y="6781680"/>
            <a:ext cx="0" cy="15264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7848720" y="6781680"/>
            <a:ext cx="0" cy="7632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324480" y="5562720"/>
            <a:ext cx="0" cy="0"/>
          </a:xfrm>
          <a:prstGeom prst="line">
            <a:avLst/>
          </a:prstGeom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9067680" y="3276720"/>
            <a:ext cx="0" cy="30456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819520" y="6858000"/>
            <a:ext cx="342900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6858000"/>
            <a:ext cx="137160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219320" y="1987200"/>
            <a:ext cx="1523880" cy="5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de evaluare, monitorizare,  informatica in  domeniul asist.sociale si prot.copilu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9 / 1 /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219320" y="6254280"/>
            <a:ext cx="1523880" cy="43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asistenţă,  protecţie si reintegrare tineri în dificult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867280" y="4495680"/>
            <a:ext cx="0" cy="0"/>
          </a:xfrm>
          <a:prstGeom prst="line">
            <a:avLst/>
          </a:prstGeom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4572000"/>
            <a:ext cx="7632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943600" y="4572000"/>
            <a:ext cx="0" cy="205740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5714640" y="647712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5714640" y="662940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6324480" y="5486400"/>
            <a:ext cx="0" cy="7632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1049120" y="5486400"/>
            <a:ext cx="0" cy="121932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1049120" y="6705720"/>
            <a:ext cx="380988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5392520" y="6705720"/>
            <a:ext cx="0" cy="190476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rot="21538800">
            <a:off x="11353680" y="8837640"/>
            <a:ext cx="137016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3300"/>
                </a:solidFill>
                <a:latin typeface="Arial Narrow"/>
              </a:rPr>
              <a:t>***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recuperare s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eabilitare Govo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 Narrow"/>
              </a:rPr>
              <a:t>24 /  1 / 2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303020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4859000" y="6705720"/>
            <a:ext cx="30492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4782680" y="8610480"/>
            <a:ext cx="60984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5087600" y="8610480"/>
            <a:ext cx="76320" cy="0"/>
          </a:xfrm>
          <a:prstGeom prst="line">
            <a:avLst/>
          </a:prstGeom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5163920" y="670572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9982080" y="9149760"/>
            <a:ext cx="1219320" cy="43740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***Centrele Milcoiu  si Govora vor functiona dupa inchidrea centrului Pauses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11620440" y="7505640"/>
            <a:ext cx="13716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Ingrijire si Asistenta Pausesti Maglas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76 /  1 / 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447812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2268080" y="84582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2268080" y="8686800"/>
            <a:ext cx="60984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2877920" y="8686800"/>
            <a:ext cx="0" cy="91440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12725280" y="8991720"/>
            <a:ext cx="15264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12725280" y="9601200"/>
            <a:ext cx="15264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877920" y="759240"/>
            <a:ext cx="1218960" cy="48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otal Posturi Aparat Propriu       =  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5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877920" y="1292400"/>
            <a:ext cx="1218960" cy="48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otal Posturi Asistenta Sociala -Adulti  =  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67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4249520" y="1680840"/>
            <a:ext cx="1218960" cy="34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otal posturi ingrijitori la domiciliu =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6T06:28:25Z</dcterms:created>
  <dc:creator>Win98</dc:creator>
  <dc:description/>
  <dc:language>en-US</dc:language>
  <cp:lastModifiedBy>Win98</cp:lastModifiedBy>
  <cp:lastPrinted>2007-05-22T09:28:48Z</cp:lastPrinted>
  <dcterms:modified xsi:type="dcterms:W3CDTF">2007-05-22T12:36:45Z</dcterms:modified>
  <cp:revision>153</cp:revision>
  <dc:subject/>
  <dc:title>No Slide Title</dc:title>
</cp:coreProperties>
</file>